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B91-5345-48EA-AB9A-219C4936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775-A1D3-4CA5-860A-744118A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655-8FAD-4A2C-AFA9-E90289F7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589-F200-4019-839E-C1CDEC80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9B5-583B-4F6A-9505-69BF5B5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545-38A7-48C5-AF30-67548EA1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FE2-3118-4355-95CB-F923A605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E61-1829-497B-ADFA-BB3D93FD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516-4E7F-49FA-8651-CCD10AC9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3E2-D32F-431F-888E-BBD3504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DD6-1FFA-48C6-B7E4-6F24557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F3A-A35F-4D0B-9198-415BFAD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7F4F-B63A-4AF1-83FB-94459501B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2.unil.ch/cbg/index.php?title=Linkages_studies&amp;action=edit&amp;redlink=1" TargetMode="External"/><Relationship Id="rId2" Type="http://schemas.openxmlformats.org/officeDocument/2006/relationships/hyperlink" Target="http://www2.unil.ch/cbg/index.php?title=Genome_Wide_Association_Studies" TargetMode="External"/><Relationship Id="rId3" Type="http://schemas.openxmlformats.org/officeDocument/2006/relationships/hyperlink" Target="http://www2.unil.ch/cbg/index.php?title=Expression_studies" TargetMode="External"/><Relationship Id="rId4" Type="http://schemas.openxmlformats.org/officeDocument/2006/relationships/hyperlink" Target="http://www2.unil.ch/cbg/index.php?title=Integrative_analysis&amp;action=edit&amp;redlink=1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9051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UNIL MSc cours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"Genes: from sequence to function 2009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048120"/>
            <a:ext cx="60958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en Bergmann (S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lo Rivolta (C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ann Weber (J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Chrast (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Course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goal: Introduction to ho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nowledge on genes affecting phenotyp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mmonly gener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two comm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etic screening appro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identifying genetic variants causally related to a particular phenotyp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ages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e family pedigrees in order to identify genetic regions that segregate in family members affected by a particular tra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ome Wide Association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e profiles of many genetic variants for individuals in a large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xpression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uses high-throughput data, but here the observables are at the level of the transcrip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methods may individually lead to candidate genes, bu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tegrative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vast amounts of data may refine them and teach you about systems properties of the regulatory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Prioritization that makes use of the exiting knowledge accumulated on public repositories is always useful, before embarking on focused Functional stu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8458200" y="1371600"/>
            <a:ext cx="533520" cy="4572000"/>
          </a:xfrm>
          <a:prstGeom prst="upArrow">
            <a:avLst>
              <a:gd name="adj1" fmla="val 21435"/>
              <a:gd name="adj2" fmla="val 210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Course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/09 10:00-12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(S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/09 10:00-12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studies: theory (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/09 10:00-12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e Wide Association Studies (S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/09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on studies 1 (J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/09 15:00-17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on studies 2 (J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/10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studies: databases and tools 1 (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/10 15:00-17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studies: databases and tools 2 (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/10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ve Analysis 1 (S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/10 15:00-17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ve Analysis 2 (S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/10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studies: exercises 3 (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/10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studies 1 (R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/10 15:00-17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studies 2 (RC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Cours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er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en.Bergmann@unil.ch (021-6925452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lo.Rivolta@unil.ch (021-69254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information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2.unil.ch/cb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ac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ue: Biophore BIO/2917b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less arranged 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360" y="258840"/>
            <a:ext cx="83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se wiki under http://www2.unil.ch/c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7:43:20Z</dcterms:created>
  <dc:creator>Sven Bergmann</dc:creator>
  <dc:description/>
  <dc:language>en-US</dc:language>
  <cp:lastModifiedBy>sbergman</cp:lastModifiedBy>
  <dcterms:modified xsi:type="dcterms:W3CDTF">2009-09-16T12:23:59Z</dcterms:modified>
  <cp:revision>12</cp:revision>
  <dc:subject/>
  <dc:title>Course Module:  Brief Introduction to  Systems Biology   Sven Bergmann Department of Medical Genetics University of Lausanne Rue de Bugnon 27 - DGM 328  CH-1005 Lausanne  Switzerland   work: ++41-21-692-5452 cell: ++41-78-663-4980  http://serverdgm.unil.ch/bergmann </dc:title>
</cp:coreProperties>
</file>